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-50760" bIns="-50760" anchor="b">
            <a:noAutofit/>
          </a:bodyPr>
          <a:p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ee agenda 1.3 for outline/ rationale.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easibility study to identify what BBI will look like after accreditation, and steps required to take us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here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there.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6 themes- (next stage)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Inquiry, muiltidisciplinary approach to learning, collaboration between departments and teams. 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5 units and ‘presentation’ at end of year 8 which makes up ‘qualification’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Focused around ‘Learner Profile’ (See Key Comp’s for concept)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 time to ‘review’ and rebuild at time of curriculum change and movement towards global element in learning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quiry and Social Sciences focus (like BBI)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ive change pro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lity outcome of change includes extrinsic ‘reward’ for teachers and school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going review to maintain status as well as moderation of student achievement from external sourc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ll known, highly respected organisation with global reach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ructured support for all teachers through pro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rticipants in IB (teachers and students) can ‘transfer’ their experience to other IB establishment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 time to ‘review’ and rebuild at time of curriculum change and movement towards global element in learning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quiry and Social Sciences focus (like BBI)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rtive change pro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lity outcome of change includes extrinsic ‘reward’ for teachers and school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going review to maintain status as well as moderation of student achievement from external sourc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ll known, highly respected organisation with global reach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ructured support for all teachers through proces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rticipants in IB (teachers and students) can ‘transfer’ their experience to other IB establishment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6 themes- (next stage)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Inquiry, muiltidisciplinary approach to learning, collaboration between departments and teams. 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5 units and ‘presentation’ at end of year 8 which makes up ‘qualification’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  <a:ea typeface="Helvetica Neue"/>
              </a:rPr>
              <a:t>Focused around ‘Learner Profile’ (See Key Comp’s for concept)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Look for PYP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Read Learner Profil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.Programme standards and practices (basic good practice with elements already present)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1280" y="9238680"/>
            <a:ext cx="825516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1640" y="88138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128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1640" y="9238680"/>
            <a:ext cx="402840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236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3440" y="88138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3128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236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3440" y="9238680"/>
            <a:ext cx="2657880" cy="38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02" name="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7" name="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" name="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32" name="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8" name="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5" name="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3" name="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9" name="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ibo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elvetica Neue Light"/>
              </a:rPr>
              <a:t>International Baccalaureate</a:t>
            </a:r>
            <a:endParaRPr b="0" lang="en-US" sz="7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47474"/>
                </a:solidFill>
                <a:latin typeface="Helvetica Neue"/>
              </a:rPr>
              <a:t>BBI Feasibility Study</a:t>
            </a:r>
            <a:endParaRPr b="0" lang="en-US" sz="62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5473800" y="7581960"/>
            <a:ext cx="665460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31608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1608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31608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1608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31608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1608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</a:rPr>
              <a:t>How the world works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51040" y="2603520"/>
            <a:ext cx="11290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the physical and material world; natural and human-made phenomena; of the world of science and technology.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f210a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210a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f210a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210a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f210a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210a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f210a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f210a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</a:rPr>
              <a:t>How we organise ourselves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51040" y="2577960"/>
            <a:ext cx="112903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human systems and communities; of the world of work, its nature and its value; of employment and unemployment and their impact on us and the world around us.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81e1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1e15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81e1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1e15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81e1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1e15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81e1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1e15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81e1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1e15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</a:rPr>
              <a:t>Sharing the planet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51040" y="2577960"/>
            <a:ext cx="112903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our rights and responsibilities as we strive to share finite resources with other people and with other living things; of communities and of the relationships within and between them.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/>
          </p:nvPr>
        </p:nvSpPr>
        <p:spPr>
          <a:xfrm>
            <a:off x="495000" y="8712000"/>
            <a:ext cx="12014280" cy="71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27272"/>
                </a:solidFill>
                <a:latin typeface="Helvetica Neue"/>
              </a:rPr>
              <a:t>International Baccalaureate Learner Profile</a:t>
            </a: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12230280" cy="8242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11341080" y="190440"/>
            <a:ext cx="1104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rcRect l="0" t="4625" r="0" b="4713"/>
          <a:stretch/>
        </p:blipFill>
        <p:spPr>
          <a:xfrm>
            <a:off x="6656400" y="-50760"/>
            <a:ext cx="61927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o are IB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47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47474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747474"/>
                </a:solidFill>
                <a:latin typeface="Helvetica Neue"/>
              </a:rPr>
              <a:t>a non-profit educational foundation based in Geneva, Switzerland, offers a Diploma program (final 2 years of school), the Middle Years (11- 16 years of age) and PYP (3 – 13 years of age).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474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747474"/>
                </a:solidFill>
                <a:latin typeface="Helvetica Neue"/>
              </a:rPr>
              <a:t>IBO provides curriculum &amp; assessment development, teacher education, information sessions, electronic networking and other educational services to IB schools.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rcRect l="0" t="578" r="0" b="813"/>
          <a:stretch/>
        </p:blipFill>
        <p:spPr>
          <a:xfrm>
            <a:off x="6667560" y="1803240"/>
            <a:ext cx="5816520" cy="43182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pic>
        <p:nvPicPr>
          <p:cNvPr id="832" name="" descr=""/>
          <p:cNvPicPr/>
          <p:nvPr/>
        </p:nvPicPr>
        <p:blipFill>
          <a:blip r:embed="rId2"/>
          <a:srcRect l="5452" t="0" r="5535" b="0"/>
          <a:stretch/>
        </p:blipFill>
        <p:spPr>
          <a:xfrm>
            <a:off x="514440" y="1793880"/>
            <a:ext cx="5816520" cy="432756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482760" y="6349680"/>
            <a:ext cx="1201392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27272"/>
                </a:solidFill>
                <a:latin typeface="Helvetica Neue"/>
              </a:rPr>
              <a:t>International Baccalaureate Mission and Vision Statement</a:t>
            </a: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10101"/>
                </a:solidFill>
                <a:latin typeface="Helvetica Neue"/>
              </a:rPr>
              <a:t>“</a:t>
            </a:r>
            <a:r>
              <a:rPr b="0" lang="en-US" sz="3100" spc="-1" strike="noStrike">
                <a:solidFill>
                  <a:srgbClr val="010101"/>
                </a:solidFill>
                <a:latin typeface="Helvetica Neue"/>
              </a:rPr>
              <a:t>The IB organisation aims to develop inquiring, knowledgeable, and caring young people who help create a better more peaceful world through intercultural understanding and respect.”</a:t>
            </a:r>
            <a:endParaRPr b="0" lang="en-US" sz="3100" spc="-1" strike="noStrike">
              <a:solidFill>
                <a:srgbClr val="727272"/>
              </a:solidFill>
              <a:latin typeface="Helvetica Neue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3"/>
          <a:stretch/>
        </p:blipFill>
        <p:spPr>
          <a:xfrm>
            <a:off x="647640" y="67644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rcRect l="6473" t="0" r="6313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7098" dir="10741573" blurRad="0" rotWithShape="0">
              <a:srgbClr val="000000">
                <a:alpha val="75000"/>
              </a:srgbClr>
            </a:outerShdw>
          </a:effectLst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y International Baccalaureate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ystematic structure of curriculum and developmen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of online resourc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dentify BBI with a ‘brand’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Quality assurance mechanism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ofessional development and training for staff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ransferrability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9156600" y="70164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rcRect l="6473" t="0" r="6313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7098" dir="10741573" blurRad="0" rotWithShape="0">
              <a:srgbClr val="000000">
                <a:alpha val="75000"/>
              </a:srgbClr>
            </a:outerShdw>
          </a:effectLst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507996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</a:rPr>
              <a:t>BBI International Baccalaureate Feasibility Study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s a school, we are investigating the positive impact International Baccalaureate would have on our students, teachers and communit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e are interested in your feelings about this programm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o else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2031840" y="2158920"/>
            <a:ext cx="8931600" cy="72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774720" y="1155600"/>
          <a:ext cx="11442600" cy="7427880"/>
        </p:xfrm>
        <a:graphic>
          <a:graphicData uri="http://schemas.openxmlformats.org/drawingml/2006/table">
            <a:tbl>
              <a:tblPr/>
              <a:tblGrid>
                <a:gridCol w="5721480"/>
                <a:gridCol w="5721120"/>
              </a:tblGrid>
              <a:tr h="824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Y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uthorised PYP Schools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0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o else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1206360" y="2362320"/>
            <a:ext cx="10591920" cy="70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to next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2044800" y="2228760"/>
            <a:ext cx="8915400" cy="676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is PYP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851040" y="2730600"/>
            <a:ext cx="1129032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ovides an opportunity for learners to construct meaning, principally through concept-driven inquiry.</a:t>
            </a: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raditional academic subjects are part of the PYP but it emphasizes the interrelatedness of knowledge and skills through a transdisciplinary programme of inquiry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PYP focusses on the heart as well as the mind and addresses social, physical, emotional and cultural needs as well as academic ones. </a:t>
            </a: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does PYP aim to develop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851040" y="2006640"/>
            <a:ext cx="1129032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udents will develop;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sensitivity to the experiences of others through the curriculum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he characteristics listed in the student profile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he attitudes that are an explicit element of the programme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he expectation of socially responsible action as a result of the learning experience.</a:t>
            </a: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is Transdisciplinary Inquiry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60240" y="2577960"/>
            <a:ext cx="11684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focus on big ideas/issues/CONCEPTS</a:t>
            </a: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essential KNOWLEDGE, SKILLS, ATTITUDES are necessary and must be taught</a:t>
            </a: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focus on taking socially responsible ACTION</a:t>
            </a: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Emphasis: Inquiry, Problem Solving, Critical Thinking</a:t>
            </a: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Integrates where appropriate key learning areas</a:t>
            </a:r>
            <a:endParaRPr b="0" lang="en-US" sz="39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is Transdisciplinary Inquiry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660240" y="2451240"/>
            <a:ext cx="1168416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n his teaching the wise man guides his students but does not pull them along; he urges them to go forward and does not suppress them; he opens the way but does not take them to the place; …. If his students are encouraged to think for themselves we may call  the man a good teacher.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        </a:t>
            </a:r>
            <a:r>
              <a:rPr b="0" lang="en-US" sz="41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(Confucius c.500BC)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 Light"/>
              </a:rPr>
              <a:t>What will my child be learning?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660240" y="2324160"/>
            <a:ext cx="11684160" cy="60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Your child will;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engage in structured, purposeful inquiry, which engages students actively in their own learning. PYP believes this way students learn in the most constructive manner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develop a deep understanding of important concepts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conduct research into knowledge which has local and global significance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acquire and practise a range of essential skills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be encouraged to develop positive attitudes towards learning, the environment &amp; other people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have the opportunity for involvement in responsible action and social service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 Light"/>
              </a:rPr>
              <a:t>What does this mean for parents?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660240" y="2590920"/>
            <a:ext cx="11684160" cy="60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PYP is working to define a balanced program of concepts, knowledge, skills, attitudes and actions for children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PYP curriculum sets high standards for and has high expectations of student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teachers plan the program together, providing a coherent education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PYP promotes good teaching practice, both through the written curriculum documents and by sharing ideas among authorized school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PYP incorporates a range of assessment, recording and reporting strategie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rcRect l="0" t="4625" r="0" b="4713"/>
          <a:stretch/>
        </p:blipFill>
        <p:spPr>
          <a:xfrm>
            <a:off x="6656400" y="-50760"/>
            <a:ext cx="61927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at is IB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ncept based, curriculum framework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 them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ntegrated, inquiry based curriculum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mary years program (up to 12 years old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Learner Profil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rcRect l="444" t="140" r="585" b="0"/>
          <a:stretch/>
        </p:blipFill>
        <p:spPr>
          <a:xfrm>
            <a:off x="596880" y="225360"/>
            <a:ext cx="9804600" cy="726768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736560" y="6781320"/>
            <a:ext cx="1153152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27272"/>
                </a:solidFill>
                <a:latin typeface="Helvetica Neue"/>
              </a:rPr>
              <a:t>Find out more at;</a:t>
            </a:r>
            <a:endParaRPr b="0" lang="en-US" sz="5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www.ibo.org</a:t>
            </a:r>
            <a:r>
              <a:rPr b="0" lang="en-US" sz="5100" spc="-1" strike="noStrike">
                <a:solidFill>
                  <a:srgbClr val="000000"/>
                </a:solidFill>
                <a:latin typeface="Helvetica Neue"/>
              </a:rPr>
              <a:t>/</a:t>
            </a:r>
            <a:endParaRPr b="0" lang="en-US" sz="5100" spc="-1" strike="noStrike">
              <a:solidFill>
                <a:srgbClr val="727272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727272"/>
              </a:solidFill>
              <a:latin typeface="Helvetica Neue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8686800" y="8372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o we ar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851040" y="2819520"/>
            <a:ext cx="1129032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the nature of the self; our beliefs and values; personal, physical, mental, social, and spiritual health; of our families, friends, communities, and cultures; our rights and responsibilities; of what it means to be human.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e110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110e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</a:rPr>
              <a:t>Where we are in time and place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851040" y="2819520"/>
            <a:ext cx="1129032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our orientation in place and time; our personal histories; history and geography from local and global perspectives; of our homes and journeys; of the discoveries, explorations and migrations of humankind;of the contributions of individuals and civilizations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rcRect l="2594" t="0" r="2446" b="0"/>
          <a:stretch/>
        </p:blipFill>
        <p:spPr>
          <a:xfrm>
            <a:off x="6502320" y="0"/>
            <a:ext cx="6502320" cy="9842400"/>
          </a:xfrm>
          <a:prstGeom prst="rect">
            <a:avLst/>
          </a:prstGeom>
          <a:ln w="0">
            <a:noFill/>
          </a:ln>
          <a:effectLst>
            <a:outerShdw dist="126947" dir="10379754" blurRad="0" rotWithShape="0">
              <a:srgbClr val="000000">
                <a:alpha val="75000"/>
              </a:srgbClr>
            </a:outerShdw>
          </a:effectLst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Themes of IB. Inquiries into;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ea14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1414"/>
                </a:solidFill>
                <a:latin typeface="Helvetica Neue"/>
              </a:rPr>
              <a:t>Who we ar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9140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1405"/>
                </a:solidFill>
                <a:latin typeface="Helvetica Neue"/>
              </a:rPr>
              <a:t>Where we are in time and place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91405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1405"/>
                </a:solidFill>
                <a:latin typeface="Helvetica Neue"/>
              </a:rPr>
              <a:t>How we express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the world work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How we organise ourselves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haring the plane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2743200" y="8588520"/>
            <a:ext cx="322596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Light"/>
              </a:rPr>
              <a:t>How we express ourselves</a:t>
            </a:r>
            <a:endParaRPr b="0" lang="en-US" sz="41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7810560" y="587520"/>
            <a:ext cx="4414680" cy="8888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851040" y="3022560"/>
            <a:ext cx="112903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An exploration of the ways in which we discover and express our nature, ideas, feelings, beliefs and values through language and the arts.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